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C3FEF-EAFE-46A2-A222-4F0DCE914A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D54A9-1EFA-4CA3-8FBC-8EC81A50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C2F8B-DD29-4E93-AD46-5C599B06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08A2E-F45F-4568-A0E9-ED42258DA9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6766A-AB25-436B-A655-CC490EC0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E7506-2B5B-4976-8EE4-2F41A41E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AA6B4-52E4-4859-94E0-F81C9EE8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D47A2-FC66-4073-926C-31A03BB3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B325A-5579-4FBE-A4FC-BEF7F4DB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F28B9-0450-437F-A2A1-784100FB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E01AC-A10F-41FE-BBEF-C6179885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705E4-3C8E-4BA6-BE42-04D423A6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07A4-EDA3-4AF9-AF75-355D6E514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ydrogen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match the captions with the correct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talk with your partner about hydrogen po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write sentences in the passive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4 on the worksheet: write answers to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8:07Z</dcterms:modified>
  <cp:revision>29</cp:revision>
  <dc:subject/>
  <dc:title>  </dc:title>
</cp:coreProperties>
</file>